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AE17-72E7-4E50-9A7F-4BE991D4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CF78-EF5C-4E1D-8D90-6270DD17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55F87-5090-474C-B0E6-82D595E2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080E5-F259-40D1-AC6A-78A49042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EE9B8-0D1B-44C0-905D-88076568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59B7E-874B-436E-9FCC-E95FC4D1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47070-65CB-43EE-A2D2-2D4840E1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FCE17-45AA-4F76-A5BC-A8203EB5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FA6AE-59A7-4EA7-8594-B87A2349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C93DC-91B9-482A-BE51-F4BB495B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08896-C21E-4397-9B82-900459D9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9956A-CB68-4F3E-8859-B5D86209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1BBD-C26F-4CD5-9F9E-DFF21BB6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59F83-61A0-4915-8A39-7C48B626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D0858-5CD8-4220-AE04-5A2BDFD7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EDEA6-F016-44EA-A04C-E5EE96C2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C9951-4DB3-4082-86DE-E93D5BDD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CC21E-9B78-4D7F-979B-12ED29A8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409D2-EB2A-470E-B02C-D6245250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4D4E2-8779-475D-9178-D2D418CB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C0E3C-0E0A-45BE-98F6-E67792D2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4CF9F-97C9-43EC-AEE9-EC5C1B5F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23865-722C-4EC1-8FFA-AA2CA61D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5C92-56CF-475B-A39C-2292B3A3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1C886-14D6-41AF-A3E1-F2BA50BC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C7D42-313C-4F30-9AB9-69523068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21AE4-AC4C-4652-A19B-7EB0ADE7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71B2D-4E26-43DB-AE73-F20F4FC8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1BD37-C105-4710-BBA5-94DBFB48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9EF50-23A0-4ED2-B109-874108C2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C1D7C-2054-472E-A7ED-06AC503C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FB58F-513C-4EB1-94AE-253DEB0A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1632C-E201-4959-B5E2-7DF0365A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471A6-C893-4D4F-80AE-7D38385C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2DEE-A197-4491-92D5-B0251A63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1E7F3-77F9-4298-B035-1D79F0A3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AFD8F-1B42-4C03-BC95-C8761E80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72659-BCA9-4E45-B631-064A60A8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41C3D-BBFD-430A-9F3A-BCFBFABE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BB7C7-F6DA-471D-9ED0-E29AE2AF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2B9A0-03C3-41AD-8C90-2CC54BC9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0A397-258E-425F-8250-A3E079EF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310C5-2C9D-4236-84FF-D2E7F303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43674-7C78-4689-9B99-E89263FA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04363-F2E8-4B2B-BB35-6B9A43A8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8264-3737-4FD5-9323-1F5B3F05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10264-1760-4883-83DA-170C56D2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F0252-32CD-41F5-B0E7-F9CBFD20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AADE4-FCD6-4779-8224-7832C285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6A764-8FE9-42B7-A087-F7E0DC54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5BE48-AEE0-4CD1-A5F7-5C84AB12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5A30-B8D3-4283-A129-A7FAB89F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2DBD-6C4C-4604-B78D-8908B2C0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3203-FCE3-4D72-B0A9-6B5FEEE8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2CAD-CCFE-4B59-8707-5EDAE875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A110-4B82-4BDF-8003-272C27D0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5815-4D8D-4AE3-9684-BDB43522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B3F6-24E7-41D2-BDB1-E24AAEB4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2BEE-8076-4466-85C0-5683BFBB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72C7-9FE1-476A-8DCF-3C2086CC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567B-6C0A-4E50-AC45-B2D043E3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70A1-D9F8-4E8A-BB15-BC79CC8C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49F3E-2E52-4C6F-8B25-D31A5024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1270E-C866-4976-8093-7BF90E6E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E6135-48F5-4C67-86DC-3987229A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F60E6-87E4-426B-8E82-620B9E55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5DF7F-0179-4DA8-BED9-C8E5D357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3F0E-2824-4A4D-9FFF-4ECD9B42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C4B10-7468-4920-ACCA-9BF86869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FFE04-B487-40A9-AEA3-D576292E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CEA8E-6C03-422E-AD94-ECEA3858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267DD-060A-4241-9377-F4CFE0A8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CEF50-0734-4382-90EF-086550A8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62611-8819-479E-9B97-F37EAA52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9AB29-14E1-4BB8-BF6F-7248BC6A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0513A-B5E6-4AF2-B7BD-46AB2E07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BF76D-BDD3-4417-A417-530BAF81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80BB8-766B-47FE-BB63-9A2DB7DD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FF6-B9E5-45C7-9A39-D0C44769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97A93-15B7-4513-AE59-A0BF8EFF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88D92-6C94-427C-A0D6-3F4FF737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6CF6C-9979-48E0-97AD-3AE78836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9F472-8EF3-4676-A8E5-683AA4B7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4C5D2-89AC-400A-9134-7436B74B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2B670-DB17-47ED-B305-0802203B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0C29D-4FE1-41E7-A39E-4295A7CE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5BA43-C6A5-484A-921E-B8028F6D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16794-35F0-4D95-AFC8-BB2669F5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9C318-F100-4064-9F98-84911D7D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FE4-8169-4B50-86C9-0327ACB6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E69C0-054A-4224-8A33-B4B16988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87DB5-ED88-450F-8B81-00051886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5FA6E-041B-44DB-81D7-4D349D3E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38A34-03BF-42F5-B73B-B349D66D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A1D9F-2B6B-4654-9B03-E6DF20D7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00749-6E4F-4C6B-AED5-FFA8A55D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A8BCC-8920-4FD9-B083-D2941316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A528D-285F-42C9-9BA4-D85F3FAE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6223D-2260-421A-9F41-4AAB6F4F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15C10-59B3-4A61-8BC6-F5A62FD0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842C-92DA-4FF8-A752-09ED1908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31130-A645-4E19-B930-E1B009AA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ECC5E-9094-48A8-800F-6B71B01D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C9CDE-CA4E-4095-A792-A1D31EE5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F99D2-749B-4D2A-BB74-233C45EE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CE795-616B-432B-B3A8-8D58BC82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C453F-CC90-4DF9-A0A3-20FA1C11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48481-4A83-4690-9E08-DD739811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282F5-9840-492B-8035-4DA4D2FE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FFB8E-0C60-4DD6-B0DD-7E28B660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9D4E1-D0CC-419A-B085-9C8A36AF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A189-1236-43C1-A028-DE869C67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26D70-2E0A-4769-BC5C-5CB633B1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1C0FB-E474-48A3-96B6-C8B3AF79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CA6CA-D31B-4920-8934-71DF8933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3E226-095C-487F-AA63-EC2656FE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86972-E21C-41CC-A059-E6BCDB34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E6F77-EF50-4E0C-B0E0-0668A1A7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313DC-C281-481C-9549-367B1C65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E4846-90B8-4871-B002-09BA7ACC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93EF7-E2D9-4208-95D9-5FF6A633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B047F-9F90-4EB9-8231-B0D57D83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620-3A43-46CD-B086-CEF73FE1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47881-8930-4A1F-93A8-23BE3891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6E67D-C31E-4DBA-B586-99D5230F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87206-EFD2-4F60-B0EB-5FBC2A37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19528-F076-485D-A6D6-7F414B79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78ECB-0858-4EA9-8BA5-0FCA8F8A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CEC3B-406B-4032-9C6F-000D8625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6DCA2-7F91-420B-8C9D-2E6118AD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6978D-A5F5-4054-9B42-A1FB4028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973A9-69BA-4001-9B0D-3F9813FF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CB05B-09C2-4DA9-8705-D7013FC7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72AB-CD55-4A15-8027-52275404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0F250-CCA1-435F-9E40-A3015EC1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FAE3C-070E-47E1-8625-FAFA4672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CC4DE-6D0F-4A36-86FF-D1E87FE0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00191-49A1-42DD-A909-6E8960E3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8E72F-B642-4483-B7D3-DAD10E9B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4958B-E424-49D6-A631-DA4A4368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5080D-30A3-4FCC-8ABB-11B5DD3D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0B9CE-42BA-4F10-ACBF-4D6D9DD0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B5B65-A163-498F-9005-73F327E0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98D75-02D0-429E-95C5-AE0A150F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Conector reto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8994-DB7E-4A00-803D-EF71C4ED74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orma livre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orma livre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Triângulo retângulo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Triângulo retângulo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0" name="Conector reto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Divis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Divis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3C6C-199F-4241-AC5A-BBE26FFAAA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9" name="Conector reto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01B9-3CAF-46EA-9483-49AB514E02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6" name="Conector reto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BEDF-0BAD-4C99-9CE7-F0A711A131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ângulo retângulo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a6f3e"/>
              </a:gs>
              <a:gs pos="50000">
                <a:srgbClr val="80b984"/>
              </a:gs>
              <a:gs pos="100000">
                <a:srgbClr val="3a6f3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a livre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3cbb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orma livre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Forma livre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a livr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Conector reto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E5B6-7F3F-470B-9816-23397346E6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Conector reto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E08E-874D-4174-81B0-DB43977D62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Divis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Divis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DAC9-0000-4A86-8C8C-E1E81A618B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7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6A16-0186-4608-87B8-94C2C95F12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67A1-4DDB-4754-9B31-B07FD899B7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5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A18E-4088-48D7-9555-06EF41F708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2" name="Conector reto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004D-20BF-4260-9C68-538315097E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57B3-963F-4947-8B69-5B9D985096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cfaf"/>
            </a:gs>
            <a:gs pos="100000">
              <a:srgbClr val="e6ef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WordArt 30"/>
          <p:cNvSpPr txBox="1"/>
          <p:nvPr/>
        </p:nvSpPr>
        <p:spPr>
          <a:xfrm>
            <a:off x="1700280" y="260280"/>
            <a:ext cx="5896080" cy="12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ESTADO DO RIO DE JANEIRO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PREFEITURA MUNICIPAL DE QUEIMADOS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59" name="WordArt 31"/>
          <p:cNvSpPr txBox="1"/>
          <p:nvPr/>
        </p:nvSpPr>
        <p:spPr>
          <a:xfrm rot="54600">
            <a:off x="1371240" y="3047760"/>
            <a:ext cx="7219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450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0ccb0"/>
                    </a:gs>
                    <a:gs pos="50000">
                      <a:srgbClr val="515e51"/>
                    </a:gs>
                    <a:gs pos="100000">
                      <a:srgbClr val="b0ccb0"/>
                    </a:gs>
                  </a:gsLst>
                  <a:lin ang="5286000"/>
                </a:gradFill>
                <a:latin typeface="CooperCnd-Heavy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0ccb0"/>
                  </a:gs>
                  <a:gs pos="50000">
                    <a:srgbClr val="515e51"/>
                  </a:gs>
                  <a:gs pos="100000">
                    <a:srgbClr val="b0ccb0"/>
                  </a:gs>
                </a:gsLst>
                <a:lin ang="5286000"/>
              </a:gradFill>
              <a:latin typeface="CooperCnd-Heavy"/>
              <a:ea typeface="CooperCnd-Heavy"/>
            </a:endParaRPr>
          </a:p>
        </p:txBody>
      </p:sp>
      <p:sp>
        <p:nvSpPr>
          <p:cNvPr id="560" name="Rectangle 37"/>
          <p:cNvSpPr/>
          <p:nvPr/>
        </p:nvSpPr>
        <p:spPr>
          <a:xfrm>
            <a:off x="4479840" y="-23004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Object 36"/>
          <p:cNvGraphicFramePr/>
          <p:nvPr/>
        </p:nvGraphicFramePr>
        <p:xfrm>
          <a:off x="0" y="0"/>
          <a:ext cx="1311120" cy="12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31112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CaixaDeTexto 31"/>
          <p:cNvSpPr/>
          <p:nvPr/>
        </p:nvSpPr>
        <p:spPr>
          <a:xfrm>
            <a:off x="1692360" y="2205000"/>
            <a:ext cx="611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Lucida Sans Unicode"/>
              </a:rPr>
              <a:t>Empreendimento 1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Lucida Sans Unicode"/>
              </a:rPr>
              <a:t>Construção de ETE – Lodo ativado por aeração prolonga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pic>
        <p:nvPicPr>
          <p:cNvPr id="565" name="Picture 4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566" name="CaixaDeTexto 5"/>
          <p:cNvSpPr/>
          <p:nvPr/>
        </p:nvSpPr>
        <p:spPr>
          <a:xfrm rot="20393400">
            <a:off x="1034640" y="5758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ETE Pedrei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Conector reto 8"/>
          <p:cNvSpPr/>
          <p:nvPr/>
        </p:nvSpPr>
        <p:spPr>
          <a:xfrm flipV="1">
            <a:off x="1332000" y="5589360"/>
            <a:ext cx="3527280" cy="71892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10" descr=""/>
          <p:cNvPicPr/>
          <p:nvPr/>
        </p:nvPicPr>
        <p:blipFill>
          <a:blip r:embed="rId2"/>
          <a:stretch/>
        </p:blipFill>
        <p:spPr>
          <a:xfrm>
            <a:off x="1039680" y="6046920"/>
            <a:ext cx="219240" cy="26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pic>
        <p:nvPicPr>
          <p:cNvPr id="57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21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Título 5" descr=""/>
          <p:cNvPicPr/>
          <p:nvPr/>
        </p:nvPicPr>
        <p:blipFill>
          <a:blip r:embed="rId2"/>
          <a:stretch/>
        </p:blipFill>
        <p:spPr>
          <a:xfrm>
            <a:off x="268200" y="225360"/>
            <a:ext cx="84250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cfaf"/>
            </a:gs>
            <a:gs pos="100000">
              <a:srgbClr val="e6ef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WordArt 30"/>
          <p:cNvSpPr txBox="1"/>
          <p:nvPr/>
        </p:nvSpPr>
        <p:spPr>
          <a:xfrm>
            <a:off x="1700280" y="260280"/>
            <a:ext cx="5896080" cy="12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ESTADO DO RIO DE JANEIRO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PREFEITURA MUNICIPAL DE QUEIMADOS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73" name="WordArt 31"/>
          <p:cNvSpPr txBox="1"/>
          <p:nvPr/>
        </p:nvSpPr>
        <p:spPr>
          <a:xfrm rot="54600">
            <a:off x="1371240" y="3047760"/>
            <a:ext cx="7219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450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0ccb0"/>
                    </a:gs>
                    <a:gs pos="50000">
                      <a:srgbClr val="515e51"/>
                    </a:gs>
                    <a:gs pos="100000">
                      <a:srgbClr val="b0ccb0"/>
                    </a:gs>
                  </a:gsLst>
                  <a:lin ang="5286000"/>
                </a:gradFill>
                <a:latin typeface="CooperCnd-Heavy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0ccb0"/>
                  </a:gs>
                  <a:gs pos="50000">
                    <a:srgbClr val="515e51"/>
                  </a:gs>
                  <a:gs pos="100000">
                    <a:srgbClr val="b0ccb0"/>
                  </a:gs>
                </a:gsLst>
                <a:lin ang="5286000"/>
              </a:gradFill>
              <a:latin typeface="CooperCnd-Heavy"/>
              <a:ea typeface="CooperCnd-Heavy"/>
            </a:endParaRPr>
          </a:p>
        </p:txBody>
      </p:sp>
      <p:sp>
        <p:nvSpPr>
          <p:cNvPr id="574" name="Rectangle 37"/>
          <p:cNvSpPr/>
          <p:nvPr/>
        </p:nvSpPr>
        <p:spPr>
          <a:xfrm>
            <a:off x="4479840" y="-23004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5" name="Object 2"/>
          <p:cNvGraphicFramePr/>
          <p:nvPr/>
        </p:nvGraphicFramePr>
        <p:xfrm>
          <a:off x="0" y="0"/>
          <a:ext cx="111600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160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CaixaDeTexto 31"/>
          <p:cNvSpPr/>
          <p:nvPr/>
        </p:nvSpPr>
        <p:spPr>
          <a:xfrm>
            <a:off x="1692360" y="2205000"/>
            <a:ext cx="611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Lucida Sans Unicode"/>
              </a:rPr>
              <a:t>Empreendimento 2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Lucida Sans Unicode"/>
              </a:rPr>
              <a:t>Implantação de Rede de Esgoto Sanitár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Título 5" descr=""/>
          <p:cNvPicPr/>
          <p:nvPr/>
        </p:nvPicPr>
        <p:blipFill>
          <a:blip r:embed="rId2"/>
          <a:stretch/>
        </p:blipFill>
        <p:spPr>
          <a:xfrm>
            <a:off x="268200" y="225360"/>
            <a:ext cx="86202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7T15:30:25Z</dcterms:created>
  <dc:creator>Cmdt. José Reis</dc:creator>
  <dc:description/>
  <dc:language>en-US</dc:language>
  <cp:lastModifiedBy>user</cp:lastModifiedBy>
  <dcterms:modified xsi:type="dcterms:W3CDTF">2012-06-29T21:02:56Z</dcterms:modified>
  <cp:revision>53</cp:revision>
  <dc:subject/>
  <dc:title>Apresentação do PowerPoint</dc:title>
</cp:coreProperties>
</file>